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8E1-3481-4CC3-A3D3-2D914B99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4A9-9FD6-45C8-8362-C8E53300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74A-A7D3-4B26-B3AB-08BDCC7D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28D-2F92-4502-952D-3044525A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D14-66B6-42D3-846A-1DA5CB9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75A4-413B-40DB-B2F6-2379E872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05A1-FFA9-4A0A-840A-20616ACA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C56B-F2F3-4033-A3D3-C6C32076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C11D-EF2E-41C0-B6EF-B7FB33B2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3472-9512-4908-AFEE-63D28A1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0468-0C1D-4DD4-940D-4192443E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D19-1A91-4038-9A47-C83D5DF1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EA78-6C25-45BC-8D3E-A8FBFF0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E34-ECB8-465E-BA99-600B496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5DE-1D23-4A2D-8DBF-AE50361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D7AC-28F1-4F47-8B2E-836E74DB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54F8-9C95-494C-9CB4-5EB79A9A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4BD-4D7C-432D-8347-8E93EE00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051-3A29-4DD5-A7C7-CF98F5F7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30E-41D9-4C55-95CA-66556623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7BA-6A39-4173-BE3F-22A1F8A8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12C-D85D-403D-A246-09557E5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8C8-9AD7-40C5-8F8A-920F928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96F-4D09-4941-BA4E-AAA01DB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B24C-C7E5-4F6A-B642-4525F266B5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F80A-F55D-48E0-9FAE-55DFAAEC12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velling by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motorcy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torcyc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one of the most com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hicle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In our country there are up to 30 mill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ocycle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The average bike is capable of speeds up to 100 kilometers per hour, and the average weigh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50-200 k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Now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`s consider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dvantages and disadvantages of travel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motorcycle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http://www.motonews.ru/imgs/new_3326_1b.jpg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http://freebiker.ru/imgase/377563__11_05_08_20_07_00.jpg"/>
          <p:cNvPicPr/>
          <p:nvPr/>
        </p:nvPicPr>
        <p:blipFill>
          <a:blip r:embed="rId1"/>
          <a:stretch/>
        </p:blipFill>
        <p:spPr>
          <a:xfrm>
            <a:off x="4211640" y="3716280"/>
            <a:ext cx="4824360" cy="2986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dvantages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52070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torcyc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is one of the most roman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ehicles. 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torcyc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no roof, so you have time to enjo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ectacul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view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exciting attractions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n the wa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http://i405.photobucket.com/albums/pp131/pavlyuk/Raznoe/Picture_661.jpg"/>
          <p:cNvPicPr/>
          <p:nvPr/>
        </p:nvPicPr>
        <p:blipFill>
          <a:blip r:embed="rId1"/>
          <a:stretch/>
        </p:blipFill>
        <p:spPr>
          <a:xfrm>
            <a:off x="3564000" y="3068640"/>
            <a:ext cx="5435640" cy="36259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dvantages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3909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Motorcycles 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le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ravelling on any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roads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 if there is b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roken asphalt 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t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sand, most motorcycles will be able to pass and not get stu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dvantages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38386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torcyc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ar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small and c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ily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pa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 narrow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a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http://motojp.narod.ru/gon.jpg"/>
          <p:cNvPicPr/>
          <p:nvPr/>
        </p:nvPicPr>
        <p:blipFill>
          <a:blip r:embed="rId1"/>
          <a:stretch/>
        </p:blipFill>
        <p:spPr>
          <a:xfrm>
            <a:off x="5003640" y="2565360"/>
            <a:ext cx="38102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advantage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259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otorcycl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the most dangerous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hicle. It is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easi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ve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an accident on it than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eat cand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http://www.xpiter.ru/photo/x_fighters/x_fighters_1164.jpg"/>
          <p:cNvPicPr/>
          <p:nvPr/>
        </p:nvPicPr>
        <p:blipFill>
          <a:blip r:embed="rId1"/>
          <a:stretch/>
        </p:blipFill>
        <p:spPr>
          <a:xfrm>
            <a:off x="5364000" y="1484280"/>
            <a:ext cx="35053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advantage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354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`re 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ravel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ong distanc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never choose a motorcycle. The wor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g ever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aught 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eavy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r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velling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n a motor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http://moto.zr.ru/images/article/ready/1/2/3/1/123182.jpg"/>
          <p:cNvPicPr/>
          <p:nvPr/>
        </p:nvPicPr>
        <p:blipFill>
          <a:blip r:embed="rId1"/>
          <a:stretch/>
        </p:blipFill>
        <p:spPr>
          <a:xfrm>
            <a:off x="4067280" y="2205000"/>
            <a:ext cx="4811760" cy="360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09:23Z</dcterms:created>
  <dc:creator>Смеющийся человек</dc:creator>
  <dc:description/>
  <dc:language>en-US</dc:language>
  <cp:lastModifiedBy>kab31</cp:lastModifiedBy>
  <dcterms:modified xsi:type="dcterms:W3CDTF">2009-02-19T10:45:15Z</dcterms:modified>
  <cp:revision>5</cp:revision>
  <dc:subject/>
  <dc:title>Слайд 1</dc:title>
</cp:coreProperties>
</file>